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6.gif" ContentType="image/gif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5.jpeg" ContentType="image/jpeg"/>
  <Override PartName="/ppt/media/image18.wmf" ContentType="image/x-wmf"/>
  <Override PartName="/ppt/media/image23.png" ContentType="image/pn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6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C6D-5E1D-4919-B94A-8815BC4F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CC8-EB2B-4E01-AA5D-2E16FF0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DEF-D787-4DB7-BE83-590561E5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677-87F3-475B-93E8-67F97542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F59-E9B5-45E8-9A62-A2D6FB70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8BE-C9E2-4652-8161-4F450ECE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4AE-FCBB-4AA3-B56B-38CF7046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F60-9461-4336-A188-A72E518A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333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241-1FBC-4851-96E6-EA9FF7F3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E37-C73E-4C2E-8B70-BBD864E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6AB-7420-405A-B1E7-B0DECA9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171-091B-4063-BFC5-FDE07D4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DE07-BAF5-447C-A985-471EBC87E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7800" y="63658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959597"/>
                </a:solidFill>
                <a:latin typeface="TheSans B5 Plain"/>
              </a:rPr>
              <a:t>Combining the strengths of UMIST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959597"/>
                </a:solidFill>
                <a:latin typeface="TheSans B5 Plain"/>
              </a:rPr>
              <a:t>The Victoria University of Man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ellowshipcollection.com/servlet/ItemImageRetrieve%3Fimage%3D852507&amp;imgrefurl=http://www.fellowshipcollection.com/detail.jsp%3Bjsessionid%3DMbxfqz2q735KGstB%3FitemId%3D852507%26category%3D83604&amp;h=300&amp;w=219&amp;sz=9&amp;hl=en&amp;start=93&amp;tbnid=iyH1wXmpeDF8eM:&amp;tbnh=116&amp;tbnw=85&amp;prev=/images%3Fq%3Disraeli%2Bflag%26start%3D80%26gbv%3D2%26ndsp%3D20%26svnum%3D10%26hl%3Den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ongo.co.il/israelcaps/israeli_army_cap.asp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.wikipedia.org/wiki/&#1514;&#1502;&#1493;&#1504;&#1492;:Ben_Yehuda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802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d009d"/>
                </a:solidFill>
                <a:latin typeface="Comic Sans MS"/>
                <a:ea typeface="Times New Roman"/>
              </a:rPr>
              <a:t>HEBREW T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594240" cy="432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21434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68360" y="1798560"/>
            <a:ext cx="51832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9640" y="184464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8000" y="1844640"/>
            <a:ext cx="93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19640" y="1916280"/>
            <a:ext cx="12236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32360" y="1916280"/>
            <a:ext cx="1440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948360" y="1916280"/>
            <a:ext cx="12240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4076640"/>
            <a:ext cx="12240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8000" y="4149720"/>
            <a:ext cx="1295640" cy="14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64000" y="4149720"/>
            <a:ext cx="12970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19640" y="4149720"/>
            <a:ext cx="144000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093080" y="3933720"/>
            <a:ext cx="151272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cc"/>
                </a:solidFill>
                <a:latin typeface="Arial"/>
              </a:rPr>
              <a:t>Here’s a remind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Akha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htayim –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halosh 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Arba - 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Khamesh -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hesh -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heva -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hmoneh -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Tesha -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ser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1484280"/>
            <a:ext cx="691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d009d"/>
                </a:solidFill>
                <a:latin typeface="Comic Sans MS"/>
                <a:ea typeface="Times New Roman"/>
              </a:rPr>
              <a:t>HEBREW T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Where is Hebrew spok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400ae"/>
                </a:solidFill>
                <a:latin typeface="Comic Sans MS"/>
              </a:rPr>
              <a:t>Isra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United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West Ba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Jewish communities around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mitic language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oken toda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spcAft>
                <a:spcPts val="1349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20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illion people speak </a:t>
            </a:r>
            <a:r>
              <a:rPr b="0" lang="en-GB" sz="5400" spc="-1" strike="noStrike">
                <a:solidFill>
                  <a:srgbClr val="333399"/>
                </a:solidFill>
                <a:latin typeface="Times New Roman"/>
              </a:rPr>
              <a:t>Ara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34be5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4be52"/>
                </a:solidFill>
                <a:latin typeface="Times New Roman"/>
              </a:rPr>
              <a:t>2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illion people speak </a:t>
            </a:r>
            <a:r>
              <a:rPr b="0" lang="en-GB" sz="4800" spc="-1" strike="noStrike">
                <a:solidFill>
                  <a:srgbClr val="34be52"/>
                </a:solidFill>
                <a:latin typeface="Times New Roman"/>
              </a:rPr>
              <a:t>Amhar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million people speak 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Hebr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Hebrew through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cc"/>
                </a:solidFill>
                <a:latin typeface="Times New Roman"/>
              </a:rPr>
              <a:t>Biblical Hebr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Post-Biblical (Rabbinic)  Hebr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66ff"/>
                </a:solidFill>
                <a:latin typeface="Times New Roman"/>
              </a:rPr>
              <a:t>Medieval Hebr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Modern Hebrew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4581360"/>
            <a:ext cx="736560" cy="10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Modern Hebr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Times New Roman"/>
              </a:rPr>
              <a:t>Late 19</a:t>
            </a:r>
            <a:r>
              <a:rPr b="0" lang="en-GB" sz="40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0" lang="en-GB" sz="4000" spc="-1" strike="noStrike">
                <a:solidFill>
                  <a:srgbClr val="ff6600"/>
                </a:solidFill>
                <a:latin typeface="Times New Roman"/>
              </a:rPr>
              <a:t> C – began to devel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Times New Roman"/>
              </a:rPr>
              <a:t>1913 became language of i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Times New Roman"/>
              </a:rPr>
              <a:t>1948 official language of Isra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ISRAEL-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4149720"/>
            <a:ext cx="1293840" cy="151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liezer Ben Yehudah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1858-19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אליעזר בן יהודה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844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6d009d"/>
                </a:solidFill>
                <a:latin typeface="Comic Sans MS"/>
              </a:rPr>
              <a:t>S h a l o 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54000" y="1989000"/>
            <a:ext cx="3056040" cy="3764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2097000"/>
            <a:ext cx="3958920" cy="2968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You </a:t>
            </a: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 know Hebrew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ff"/>
                </a:solidFill>
                <a:latin typeface="Times New Roman"/>
              </a:rPr>
              <a:t>A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ff"/>
                </a:solidFill>
                <a:latin typeface="Times New Roman"/>
              </a:rPr>
              <a:t>Halleluj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ff"/>
                </a:solidFill>
                <a:latin typeface="Times New Roman"/>
              </a:rPr>
              <a:t>Kos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ff"/>
                </a:solidFill>
                <a:latin typeface="Times New Roman"/>
              </a:rPr>
              <a:t>Alphab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ff"/>
                </a:solidFill>
                <a:latin typeface="Times New Roman"/>
              </a:rPr>
              <a:t>Sabba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d009d"/>
                </a:solidFill>
                <a:latin typeface="Comic Sans MS"/>
              </a:rPr>
              <a:t>Mini Phrase Bo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27240" y="2060640"/>
            <a:ext cx="3005280" cy="33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1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Easy peazy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→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 Kalei kal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899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d009d"/>
                </a:solidFill>
                <a:latin typeface="Comic Sans MS"/>
              </a:rPr>
              <a:t>Shalom   Hello   </a:t>
            </a:r>
            <a:r>
              <a:rPr b="1" lang="he-IL" sz="2800" spc="-1" strike="noStrike">
                <a:solidFill>
                  <a:srgbClr val="6d009d"/>
                </a:solidFill>
                <a:latin typeface="Comic Sans MS"/>
                <a:cs typeface="Times New Roman"/>
              </a:rPr>
              <a:t>שלום</a:t>
            </a:r>
            <a:r>
              <a:rPr b="1" lang="en-GB" sz="2800" spc="-1" strike="noStrike">
                <a:solidFill>
                  <a:srgbClr val="6d009d"/>
                </a:solidFill>
                <a:latin typeface="Comic Sans MS"/>
                <a:ea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Lehitra’ot   See you later  </a:t>
            </a:r>
            <a:r>
              <a:rPr b="1" lang="he-IL" sz="2800" spc="-1" strike="noStrike">
                <a:solidFill>
                  <a:srgbClr val="009999"/>
                </a:solidFill>
                <a:latin typeface="Comic Sans MS"/>
                <a:cs typeface="Times New Roman"/>
              </a:rPr>
              <a:t>להתראות</a:t>
            </a:r>
            <a:r>
              <a:rPr b="1" lang="en-GB" sz="2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likha   Sorry/Excuse me  </a:t>
            </a:r>
            <a:r>
              <a:rPr b="1" lang="he-IL" sz="2800" spc="-1" strike="noStrike">
                <a:solidFill>
                  <a:srgbClr val="333399"/>
                </a:solidFill>
                <a:latin typeface="Comic Sans MS"/>
                <a:cs typeface="Times New Roman"/>
              </a:rPr>
              <a:t>סליח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22332"/>
                </a:solidFill>
                <a:latin typeface="Comic Sans MS"/>
                <a:ea typeface="Times New Roman"/>
              </a:rPr>
              <a:t>Toda   Thank you   </a:t>
            </a:r>
            <a:r>
              <a:rPr b="1" lang="he-IL" sz="2800" spc="-1" strike="noStrike">
                <a:solidFill>
                  <a:srgbClr val="d22332"/>
                </a:solidFill>
                <a:latin typeface="Comic Sans MS"/>
                <a:cs typeface="Times New Roman"/>
              </a:rPr>
              <a:t>תוד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Bevakasha   Please/Your are welcome  </a:t>
            </a:r>
            <a:r>
              <a:rPr b="1" lang="he-IL" sz="2800" spc="-1" strike="noStrike">
                <a:solidFill>
                  <a:srgbClr val="ff00ff"/>
                </a:solidFill>
                <a:latin typeface="Comic Sans MS"/>
                <a:cs typeface="Times New Roman"/>
              </a:rPr>
              <a:t>בבקש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Ken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Yes   </a:t>
            </a:r>
            <a:r>
              <a:rPr b="1" lang="he-IL" sz="2800" spc="-1" strike="noStrike">
                <a:solidFill>
                  <a:srgbClr val="0000ff"/>
                </a:solidFill>
                <a:latin typeface="Comic Sans MS"/>
                <a:cs typeface="Times New Roman"/>
              </a:rPr>
              <a:t>כ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o    No    </a:t>
            </a:r>
            <a:r>
              <a:rPr b="1" lang="he-IL" sz="2800" spc="-1" strike="noStrike">
                <a:solidFill>
                  <a:srgbClr val="ff0000"/>
                </a:solidFill>
                <a:latin typeface="Comic Sans MS"/>
                <a:cs typeface="Times New Roman"/>
              </a:rPr>
              <a:t>ל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19232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cc00ff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4120" y="2290680"/>
            <a:ext cx="73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cc00ff"/>
                </a:solidFill>
                <a:latin typeface="Arial"/>
                <a:cs typeface="Arial"/>
              </a:rPr>
              <a:t>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00240" y="2276640"/>
            <a:ext cx="58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cc00ff"/>
                </a:solidFill>
                <a:latin typeface="Arial"/>
                <a:cs typeface="Arial"/>
              </a:rPr>
              <a:t>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0400" y="2290680"/>
            <a:ext cx="37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cc00ff"/>
                </a:solidFill>
                <a:latin typeface="Arial"/>
                <a:cs typeface="Arial"/>
              </a:rPr>
              <a:t>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2276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cc00ff"/>
                </a:solidFill>
                <a:latin typeface="Arial"/>
                <a:cs typeface="Arial"/>
              </a:rPr>
              <a:t>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Marge Simpson"/>
          <p:cNvPicPr/>
          <p:nvPr/>
        </p:nvPicPr>
        <p:blipFill>
          <a:blip r:embed="rId1"/>
          <a:stretch/>
        </p:blipFill>
        <p:spPr>
          <a:xfrm>
            <a:off x="1919160" y="1940040"/>
            <a:ext cx="1019160" cy="29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95800" y="2421000"/>
            <a:ext cx="140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99"/>
                </a:solidFill>
                <a:latin typeface="Arial"/>
                <a:cs typeface="Arial"/>
              </a:rPr>
              <a:t>שלו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65760" y="2421000"/>
            <a:ext cx="8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3300"/>
                </a:solidFill>
                <a:latin typeface="Arial"/>
                <a:cs typeface="Arial"/>
              </a:rPr>
              <a:t>אנ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70000" y="2421000"/>
            <a:ext cx="155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cc33"/>
                </a:solidFill>
                <a:latin typeface="Arial"/>
                <a:cs typeface="Arial"/>
              </a:rPr>
              <a:t>מארג</a:t>
            </a:r>
            <a:r>
              <a:rPr b="0" lang="he-IL" sz="4400" spc="-1" strike="noStrike">
                <a:solidFill>
                  <a:srgbClr val="33cc33"/>
                </a:solidFill>
                <a:latin typeface="Arial"/>
                <a:ea typeface="Arial"/>
              </a:rPr>
              <a:t>'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7339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e-IL" sz="5400" spc="-1" strike="noStrike">
                <a:solidFill>
                  <a:srgbClr val="6600cc"/>
                </a:solidFill>
                <a:latin typeface="Arial"/>
                <a:cs typeface="Arial"/>
              </a:rPr>
              <a:t>ש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he-IL" sz="5400" spc="-1" strike="noStrike">
                <a:solidFill>
                  <a:srgbClr val="ff0066"/>
                </a:solidFill>
                <a:latin typeface="Arial"/>
                <a:cs typeface="Arial"/>
              </a:rPr>
              <a:t>ב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he-IL" sz="5400" spc="-1" strike="noStrike">
                <a:solidFill>
                  <a:srgbClr val="008000"/>
                </a:solidFill>
                <a:latin typeface="Arial"/>
                <a:cs typeface="Arial"/>
              </a:rPr>
              <a:t>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4720" y="162864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00cc"/>
                </a:solidFill>
                <a:latin typeface="Arial"/>
              </a:rPr>
              <a:t>sh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5400" spc="-1" strike="noStrike">
                <a:solidFill>
                  <a:srgbClr val="ff0066"/>
                </a:solidFill>
                <a:latin typeface="Arial"/>
              </a:rPr>
              <a:t>b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5400" spc="-1" strike="noStrike">
                <a:solidFill>
                  <a:srgbClr val="00800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ff"/>
                </a:solidFill>
                <a:latin typeface="Comic Sans MS"/>
              </a:rPr>
              <a:t>The Sound of the Hebrew Vow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388908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udhr_hebrew_pointed" descr="Sample text in Hebrew (with vowels)"/>
          <p:cNvPicPr/>
          <p:nvPr/>
        </p:nvPicPr>
        <p:blipFill>
          <a:blip r:embed="rId1"/>
          <a:stretch/>
        </p:blipFill>
        <p:spPr>
          <a:xfrm>
            <a:off x="2050920" y="2997360"/>
            <a:ext cx="5162760" cy="1047600"/>
          </a:xfrm>
          <a:prstGeom prst="rect">
            <a:avLst/>
          </a:prstGeom>
          <a:ln w="0">
            <a:noFill/>
          </a:ln>
        </p:spPr>
      </p:pic>
      <p:pic>
        <p:nvPicPr>
          <p:cNvPr id="130" name="udhr_hebrew_cursive" descr="Sample text in Hebrew (cursive script"/>
          <p:cNvPicPr/>
          <p:nvPr/>
        </p:nvPicPr>
        <p:blipFill>
          <a:blip r:embed="rId2"/>
          <a:stretch/>
        </p:blipFill>
        <p:spPr>
          <a:xfrm>
            <a:off x="1692360" y="4724280"/>
            <a:ext cx="5600520" cy="533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2400" y="1087920"/>
            <a:ext cx="198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66"/>
                </a:solidFill>
                <a:latin typeface="Verdana"/>
                <a:ea typeface="Times New Roman"/>
              </a:rPr>
              <a:t>Sample texts in Heb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Without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0" y="276264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With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120" y="4359960"/>
            <a:ext cx="121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Cursive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udhr_hebrew" descr="Sample text in Hebrew"/>
          <p:cNvPicPr/>
          <p:nvPr/>
        </p:nvPicPr>
        <p:blipFill>
          <a:blip r:embed="rId3"/>
          <a:stretch/>
        </p:blipFill>
        <p:spPr>
          <a:xfrm>
            <a:off x="1547640" y="1700280"/>
            <a:ext cx="5629320" cy="94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24680" y="5515920"/>
            <a:ext cx="56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0033cc"/>
                </a:solidFill>
                <a:latin typeface="Arial"/>
              </a:rPr>
              <a:t>Article 1 of the Universal Declaration of Human Rights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  <a:cs typeface="Times New Roman"/>
              </a:rPr>
              <a:t>שלו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1703520"/>
            <a:ext cx="6553440" cy="444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1656000" cy="124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2592360" cy="460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24360" y="18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37600" y="333360"/>
            <a:ext cx="29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000000"/>
                </a:solidFill>
                <a:latin typeface="Comic Sans MS"/>
              </a:rPr>
              <a:t>LAKO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10101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brew is a difficult language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by North Cheshire Jewish Primary School Choir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ords and music: Ruth Wor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 is a complicated, difficult langua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’s an impossible, bewilder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We know it’s rich and ancient and exciting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But learning it is trying and exac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 – is a difficult language. (</a:t>
            </a:r>
            <a:r>
              <a:rPr b="0" i="1" lang="en-GB" sz="2400" spc="-1" strike="noStrike">
                <a:solidFill>
                  <a:srgbClr val="6600cc"/>
                </a:solidFill>
                <a:latin typeface="Comic Sans MS"/>
              </a:rPr>
              <a:t>Repeats</a:t>
            </a: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Hebrew you say Shalom when you co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Hebrew you say Shalom when you 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Hebrew you don’t know whether you’re coming or go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Hebrew you don’t use any vow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stead you use the dot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, O, U, EE, E, AI – V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 is a complicated, difficult langua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’s an impossible, bewilder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We know it’s rich and ancient and exciting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But learning it is trying and exac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 – is a difficult language. (</a:t>
            </a:r>
            <a:r>
              <a:rPr b="0" i="1" lang="en-GB" sz="2400" spc="-1" strike="noStrike">
                <a:solidFill>
                  <a:srgbClr val="6600cc"/>
                </a:solidFill>
                <a:latin typeface="Comic Sans MS"/>
              </a:rPr>
              <a:t>Repeats</a:t>
            </a: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Hebrew – you say everything the wrong way ar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mma Sheli – Mummy m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led Tov – boy goo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’ev Beten – ache tumm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shuv Me’od – important Ve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 is a complicated, difficult langua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’s an impossible, bewilder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We know it’s rich and ancient and exciting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But learning it is trying and exac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 – is a difficult language. (</a:t>
            </a:r>
            <a:r>
              <a:rPr b="0" i="1" lang="en-GB" sz="2400" spc="-1" strike="noStrike">
                <a:solidFill>
                  <a:srgbClr val="6600cc"/>
                </a:solidFill>
                <a:latin typeface="Comic Sans MS"/>
              </a:rPr>
              <a:t>Repeats</a:t>
            </a: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Hebrew  - Ani – means 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? means, 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u – means, h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he – means, sh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you are – in Hebrew you don’t even know wh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are a he or a sh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 is a complicated, difficult langua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’s an impossible, bewilder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We know it’s rich and ancient and exciting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But learning it is trying and exac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Hebrew – is a difficult language. (</a:t>
            </a:r>
            <a:r>
              <a:rPr b="0" i="1" lang="en-GB" sz="2400" spc="-1" strike="noStrike">
                <a:solidFill>
                  <a:srgbClr val="6600cc"/>
                </a:solidFill>
                <a:latin typeface="Comic Sans MS"/>
              </a:rPr>
              <a:t>Repeats</a:t>
            </a: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5160" y="2008080"/>
            <a:ext cx="4176720" cy="3946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74000" y="7776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000000"/>
                </a:solidFill>
                <a:latin typeface="Comic Sans MS"/>
              </a:rPr>
              <a:t>LASHEV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000000"/>
                </a:solidFill>
                <a:latin typeface="Comic Sans MS"/>
              </a:rPr>
              <a:t>LE’HISTOVE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1352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GB" sz="5400" spc="-1" strike="noStrike">
                <a:solidFill>
                  <a:srgbClr val="000000"/>
                </a:solidFill>
                <a:latin typeface="Comic Sans MS"/>
                <a:ea typeface="Traditional Arabic"/>
              </a:rPr>
              <a:t>LITZ’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3583080" cy="3603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435640" y="2637000"/>
            <a:ext cx="280980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Shalom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1484280"/>
            <a:ext cx="691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d009d"/>
                </a:solidFill>
                <a:latin typeface="Comic Sans MS"/>
                <a:ea typeface="Times New Roman"/>
              </a:rPr>
              <a:t>HEBREW</a:t>
            </a:r>
            <a:r>
              <a:rPr b="1" lang="en-GB" sz="5400" spc="-1" strike="noStrike">
                <a:solidFill>
                  <a:srgbClr val="6d009d"/>
                </a:solidFill>
                <a:latin typeface="Times New Roman"/>
                <a:ea typeface="Times New Roman"/>
              </a:rPr>
              <a:t> </a:t>
            </a:r>
            <a:r>
              <a:rPr b="1" lang="en-GB" sz="5400" spc="-1" strike="noStrike">
                <a:solidFill>
                  <a:srgbClr val="6d009d"/>
                </a:solidFill>
                <a:latin typeface="Comic Sans MS"/>
                <a:ea typeface="Times New Roman"/>
              </a:rPr>
              <a:t>T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Marge Simpson"/>
          <p:cNvPicPr/>
          <p:nvPr/>
        </p:nvPicPr>
        <p:blipFill>
          <a:blip r:embed="rId1"/>
          <a:stretch/>
        </p:blipFill>
        <p:spPr>
          <a:xfrm>
            <a:off x="3132000" y="333360"/>
            <a:ext cx="2036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2414520" cy="3168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96000" y="3284640"/>
            <a:ext cx="13716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9:06:51Z</dcterms:created>
  <dc:creator>zlsiias</dc:creator>
  <dc:description/>
  <dc:language>en-US</dc:language>
  <cp:lastModifiedBy>sophie</cp:lastModifiedBy>
  <dcterms:modified xsi:type="dcterms:W3CDTF">2008-09-28T13:10:47Z</dcterms:modified>
  <cp:revision>160</cp:revision>
  <dc:subject/>
  <dc:title>Slide 1</dc:title>
</cp:coreProperties>
</file>